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70F-B5AC-47DE-A42D-3A37AE05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129-1BD9-4B05-9F14-13BC3E13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0F55-F1C3-435B-94AE-1E85F42C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21B5-2D43-4B8C-9B8B-4186505C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4E7-65FE-459A-A1E3-865F1B9E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C9EE-5D2D-4906-B8BD-5C3AFFB2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C0E-768D-4008-9C7B-A28B3193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C90-FBE9-4252-B1E4-CD7739D2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6F7-4B4B-44E9-BA13-6112A580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D92-F61B-45B5-8588-FAE6FCE0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FCA-06C4-4A03-A9EA-07F10DE1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09E-8F2F-4427-9467-1817F299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15AD-A9CC-441C-9C08-83563A5F3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upeni-lyceum.ru/editor/uploads/files/libr_big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-crimea.info/pictures/h_lh0BdVaTwW36DkNYSIZcp5e9gjn8QFPz_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ooklya.com.ua/files/books/7774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Библиотеки, энциклопеди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и словар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в Интер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084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У СОШ №1 г. Спас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Библиотек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реч. bibliothēkē, от biblíon — книга и thēkē — хранилище) </a:t>
            </a: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то культурно-просветительное и научно вспомогательное учреждение, организующее общественное пользование произведениями печат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20 из 1163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645000"/>
            <a:ext cx="403236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Электронная библиотека – это распределенная информационная система, позволяющая надежно сохранять и эффективно использовать разнородные коллекции электронных документов через глобальные сети передачи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в удобном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конеч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пользователя виде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а 21 из 4498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3645000"/>
            <a:ext cx="41608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Российская государстве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rs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Библиотека Мо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lib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Научная электро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elibrary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Энциклопедия</a:t>
            </a:r>
            <a:r>
              <a:rPr b="1" i="1" lang="ru-RU" sz="26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от греч . enkyklios paideia - обучение по всему кругу знаний)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Informal Roman"/>
              </a:rPr>
              <a:t>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научное или научно-популярное справочное издание, содержащее систематизированный свод знани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3610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Электронная энциклопедия может быть копией печатной энциклопедии или оригинальным электронным изд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0 из 36727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637000"/>
            <a:ext cx="31035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лектронные энциклопе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dic.academic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ru.wikipedia.org</a:t>
            </a: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Круго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 krugosve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Словарь — книга, содержащая собрание слов, расположенных по определённому принципу, и дающая сведения об их значениях, употреблении, происхождении, переводе на другой язык и т. п. или информацию о понятиях и предметах, ими обозначаемых, о деятелях в каких-либо областях науки, культуры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27280" y="4221000"/>
            <a:ext cx="432000" cy="43200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149720"/>
            <a:ext cx="576360" cy="43164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00000" y="4797360"/>
            <a:ext cx="3229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энциклопед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48360" y="4797360"/>
            <a:ext cx="3228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лингвист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переводчик – это программа, позволяющая переводить тексты, с сохранением исходного форматирования, и электронные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4869000"/>
            <a:ext cx="8218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словарь – это программа, которая обеспечивает перевод слов с русского языка на другой и на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25 из 622"/>
          <p:cNvPicPr/>
          <p:nvPr/>
        </p:nvPicPr>
        <p:blipFill>
          <a:blip r:embed="rId2"/>
          <a:srcRect l="3315" t="4973" r="4807" b="3978"/>
          <a:stretch/>
        </p:blipFill>
        <p:spPr>
          <a:xfrm rot="120000">
            <a:off x="3349800" y="2135160"/>
            <a:ext cx="4030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Онлайновый переводчик ПРОМ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translate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lingvo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30T08:08:46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